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73A-DC10-4A46-A5D2-82EC8201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BF9-9D35-49DC-94DD-DC4A584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ED4-34D4-441E-ACA9-B1A22AE1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48E-E029-4B38-BB65-BD0D9D1F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198-96E5-49C5-A64A-6D660108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EC5-4E5A-4F61-9AEB-B8E717E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6F2-CD21-433C-8607-88CD0F7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CCE-B28A-4A80-AB18-B3DB256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375-3D03-493A-B796-B45431BF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4E9-1388-48D3-A62D-2E9A6D1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6F4-0BF3-46A6-8170-51DC93B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5FC-F270-41CB-AA26-FE83299C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B9E7-17DA-4C4C-A900-22BEA5D48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9436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R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E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C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Y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C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L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I</a:t>
            </a:r>
            <a:r>
              <a:rPr b="0" lang="en-US" sz="6000" spc="-1" strike="noStrike">
                <a:solidFill>
                  <a:srgbClr val="009999"/>
                </a:solidFill>
                <a:latin typeface="Broadway"/>
              </a:rPr>
              <a:t>N</a:t>
            </a:r>
            <a:r>
              <a:rPr b="0" lang="en-US" sz="6000" spc="-1" strike="noStrike">
                <a:solidFill>
                  <a:srgbClr val="99cc00"/>
                </a:solidFill>
                <a:latin typeface="Broadway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6858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s w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y r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g w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p u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d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u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 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g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y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d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 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g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 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k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b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f we recycle our news papers, papers, work sheets, and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k w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d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g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m w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v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 f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f y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u 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y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p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k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f 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’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v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 a 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. F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w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p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 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umber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g t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h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t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r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e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f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o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 d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u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m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p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 a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d 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a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d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 f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i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l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s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15000" y="6553080"/>
            <a:ext cx="114300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1143000" cy="259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67080" y="7162920"/>
            <a:ext cx="141300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7162920"/>
            <a:ext cx="141300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514600" y="71629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57:05Z</dcterms:created>
  <dc:creator>mes5c</dc:creator>
  <dc:description/>
  <dc:language>en-US</dc:language>
  <cp:lastModifiedBy>mes5c</cp:lastModifiedBy>
  <dcterms:modified xsi:type="dcterms:W3CDTF">2011-02-03T13:13:36Z</dcterms:modified>
  <cp:revision>8</cp:revision>
  <dc:subject/>
  <dc:title>RECYCLING ROCKS</dc:title>
</cp:coreProperties>
</file>